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DD69-9055-44EA-87E5-3924F172E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65A-A3BD-4882-8E19-E338A66A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C80-A28A-42A3-8575-6617EF19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17BA-7AF3-4D99-9648-D19626CB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E49F-7E11-46DB-A37F-BFE65641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25FA-DD7B-4F6B-BD07-B91846C8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A4A9-6D6D-4027-97A9-52E20450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ED99-552D-4485-BC0F-0DD2A03E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AE6B-B9E6-4208-A646-34F3AC36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37C7D-3EB5-490C-B21F-8371B43E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579D-3930-4296-B9BE-47CF97AE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6277-64F8-4063-9400-79AAB448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E20C-EE53-44BE-BB96-95299BCB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7906-328E-427C-8BDB-66BC369B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D8F1-2B70-449B-B645-096DDB6E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0D1D-235E-49D5-AE75-CF3F7FDD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598A-B809-4EC7-8549-9A895374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4CC4-5BC1-45DB-A1C4-58E828A8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5C0-A16F-4DA5-B30E-3110CA87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62E7-7DB5-457C-A7BE-2558DD72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E7F-93AF-4E0D-920C-88E95967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431-7A31-4090-9F4E-E888D2A2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995-687A-43DB-AEAF-C2840782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A8D-CBEF-488A-ADB1-C7F4EE47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756E-4F05-4E91-9EB1-1EE3F5FACF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4387-2FC5-4C87-854B-5E9FE15BC2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YTHON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FLANNERY DEARB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857240" cy="1844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2190600" cy="32767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934320" y="228600"/>
            <a:ext cx="196200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O YOU LIKE PYTHONS? IF SO READ ON TO LEARN MORE ON PYTHONS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47920" y="5105520"/>
            <a:ext cx="185400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YTHONS LIVE IN TREES AND CAVE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YTHONS LIVE IN TREES TO PROTECT  THEM SELVES FROM BIGGER ANIM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THONS DON’T LIVE IN S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6576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YTHONS CAN GROW UP TO 7 FEET IN LENGTH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AN GROW BIGGER THAN 7 FEE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2865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YTHONS ARE GREEN, REDDISH, ORANGE, AND YELLOW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THONS CAN NOT CHANGE COLORS LIKE CHAMELE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188136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YTHONS CAN LIVE FOR 50 YEARS! WOW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YTHONS WERE TOLD TO BE 80 YEARS OLD BEFORE DIYING!!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IKES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28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 NOW THAT YOU HAVE LEARNED A LITTLE ABOUT PY THONS, YOU KNOW NOW  THAT PYTHONS ARE REALLY COOL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276720" y="4343400"/>
            <a:ext cx="2743200" cy="2206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943600" y="3048120"/>
            <a:ext cx="1994040" cy="13366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7238880" y="5029200"/>
            <a:ext cx="1649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2:47:23Z</dcterms:created>
  <dc:creator>kkaiser</dc:creator>
  <dc:description/>
  <dc:language>en-US</dc:language>
  <cp:lastModifiedBy>JATKINSO</cp:lastModifiedBy>
  <dcterms:modified xsi:type="dcterms:W3CDTF">2008-02-22T19:29:06Z</dcterms:modified>
  <cp:revision>3</cp:revision>
  <dc:subject/>
  <dc:title>Animal Name</dc:title>
</cp:coreProperties>
</file>